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F20-DEEE-400F-86DD-EEF6C485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473-47D3-4634-98FB-F55D715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20D-19AE-4068-9F8B-F5D4E2C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F67-EA49-4DCC-B808-2F10BB76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F907-3ABD-43C6-94D4-5E89AC7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444-FD18-4BDC-8D81-E725F68E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AD7C-96A3-456C-AAB7-48B302D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41C8-32DB-41A7-90B3-D529131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B6A0-6D02-48DD-BEB8-A3796FE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25FB-6729-48F3-9936-72B3E17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76C-FDAD-4F39-AFB5-D9ACFE8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231-EECC-4CB5-804E-A471CF0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D79C-9180-49B6-84A5-C415564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34D-B5D6-4E9B-AE17-479D6D9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D435-28DA-4932-B2FD-0B7C9FE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A2C-366F-4878-B37A-CEE931EB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79F4-21AD-46EE-8BAB-11C64AA1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F84-4403-4CE4-9F54-2C18577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AFE-536D-4C6D-AA64-067CDDB2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CC9-6DC6-47F1-BB40-6DD57E32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F16-5BE7-4BA0-AD58-393B1E1C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C46-E9A6-433F-B360-DEE9886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B15-5D06-41DC-8E2C-64F0F85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53B-03D6-4CC7-9729-893B7B6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D56-C85E-42C9-BB12-94ACD6F03B8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7789-88C1-468C-8EA2-395AB9F090D9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Gépjárművek ellenőr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6. Gépjármű átvizsg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9160" y="148428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2060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8720" y="2060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241920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40035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241920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200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76720" y="29242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658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1164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400356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249228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7. Tárgyak bevite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6440" y="162864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Bevinni tilos tárgy a gépjármű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720" y="23493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in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61520" y="227664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an - bevitel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3429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akomány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43700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72360" y="2708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38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2436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43640" y="3357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72360" y="3716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80000" y="42926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1840" y="4437000"/>
            <a:ext cx="18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rakomány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Letétbe hely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384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3384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8. A rakomány ellenőr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9160" y="148428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2060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8720" y="2060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0200" y="241920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40035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76720" y="29242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658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164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400356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03280" y="249228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42100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-K 8. Ellenőrzési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módszere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2200" y="198900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. Tétele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2421000"/>
            <a:ext cx="43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2. Szúrópróba-szerű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2200" y="458136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4. Ellenőrzé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" y="508464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5. Ellenőrzés kuty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42920" y="2997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ehajtás: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Okmány                       Rakomá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" y="4076640"/>
            <a:ext cx="32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3. Ellenőrzés megtekint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480" y="55897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6. Ellenőrzés mérlegel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3213000"/>
            <a:ext cx="115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2920" y="3429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ihajtás: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Rakomány                   </a:t>
            </a:r>
            <a:r>
              <a:rPr b="1" lang="hu-HU" sz="1800" spc="-1" strike="noStrike">
                <a:solidFill>
                  <a:srgbClr val="ffff00"/>
                </a:solidFill>
                <a:latin typeface="Verdana"/>
              </a:rPr>
              <a:t>Okmá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19640" y="3645000"/>
            <a:ext cx="115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9. Behajtás ideiglenes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megtagad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4840" y="177336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behajtás engedélyezésére illetékes személy érte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2421000"/>
            <a:ext cx="75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tézkedés a behajtás engedélyezésére illetékes személydöntése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41440" y="3284640"/>
            <a:ext cx="324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16360" y="378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0. p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465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ehajtás engedély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4724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behajtás végleg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4000" y="5589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932000" y="5157720"/>
            <a:ext cx="32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31640" y="5157720"/>
            <a:ext cx="324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932000" y="4292640"/>
            <a:ext cx="32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131640" y="4292640"/>
            <a:ext cx="324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Gépjárművek kihajt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K 1. Kihajtási jogosultsá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3200" y="162864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az objektum területéről ki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5840" y="2349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01480" y="2349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dokumentumok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8000" y="342900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K 2. Okmányok ellenőr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7080" y="1628640"/>
            <a:ext cx="801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az okmányok ellenőrzését követően az objektum területéről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ki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5840" y="2349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01480" y="2349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3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az ittasság érzékszervi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4508640"/>
            <a:ext cx="273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9236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Tudomásul ves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6728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59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4437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5964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6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3. Ittasság </a:t>
            </a:r>
            <a:br>
              <a:rPr sz="4400"/>
            </a:b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– érzékszervi ellenőrz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6640" y="169236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őr az ittasságot érzékszervi ellenőrz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6040" y="22766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állapítj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5480" y="22050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állap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08000" y="270828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3132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33800" y="31338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gépjármű nem az objektum tulajdonosá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4581360"/>
            <a:ext cx="230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ismeri el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–</a:t>
            </a:r>
            <a:r>
              <a:rPr b="1" lang="hu-HU" sz="1800" spc="-1" strike="noStrike">
                <a:solidFill>
                  <a:srgbClr val="00ff00"/>
                </a:solidFill>
                <a:latin typeface="Times New Roman"/>
              </a:rPr>
              <a:t>Következik a 4. pont </a:t>
            </a:r>
            <a:r>
              <a:rPr b="1" lang="hu-HU" sz="18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2781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36000" y="2781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47640" y="50115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ás intézkedési lehetőség nincs –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rendőrséget esetleg lehet értesít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35280" y="429264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0. pont –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ihajtás engedély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27640" y="37908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67280" y="3213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gépjármű az objektum tulajdonosá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459640" y="393372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72360" y="4005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16360" y="4581360"/>
            <a:ext cx="2305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ismeri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1" lang="hu-HU" sz="1800" spc="-1" strike="noStrike">
                <a:solidFill>
                  <a:srgbClr val="00ff00"/>
                </a:solidFill>
                <a:latin typeface="Times New Roman"/>
              </a:rPr>
              <a:t>övetkezik a 9. pont </a:t>
            </a:r>
            <a:r>
              <a:rPr b="1" lang="hu-HU" sz="1800" spc="-1" strike="noStrike">
                <a:solidFill>
                  <a:srgbClr val="ffff00"/>
                </a:solidFill>
                <a:latin typeface="Times New Roman"/>
              </a:rPr>
              <a:t>–a kihajtás ideiglenes megtagad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5280" y="15876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z ellenőrzés történhet az érzékszervi megállapítás után vagy szúrópróba szerűen-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de csak a megbízó gépjárművei vonatkozásá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9160" y="285264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4292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42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84720" y="4292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64000" y="378792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03280" y="386064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4. Ittasság </a:t>
            </a:r>
            <a:br>
              <a:rPr sz="4400"/>
            </a:b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– ellenőrzés szondáv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Közös szabály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200" y="3068640"/>
            <a:ext cx="86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vizsgálata elsősorban az objektum biztonsága érdekében történ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378936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be- illetve kihajtásának megtagadása, az objektum területén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történő közlekedésének megtiltása esetén, a gépjárműben vagy azon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tartózkodó személyekre a gyalogos forgalom szabályai vonatkoz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160" y="2060640"/>
            <a:ext cx="726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objektum gépjármű forgalmának és ellenőrzésének szabályait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jogszabályok keretei között a tulajdonos határozz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2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5. Utasok kilétének </a:t>
            </a:r>
            <a:br>
              <a:rPr sz="4400"/>
            </a:b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ellenőr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6000" y="162864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utasok az objektum területére a be- és kilépésre vonatkozó szabályok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szerint kilépés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85120" y="23493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00400" y="23493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6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a gépjármű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4437000"/>
            <a:ext cx="31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yalogos forgalom szabályainak alkalma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35280" y="3429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Tudomásul ves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8620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8000" y="386064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5964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6728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nak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59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437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81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6. Gépjármű átvizsgál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65520" y="191772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2000" y="24940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03280" y="3357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45080" y="24940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56000" y="3645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37080" y="314172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79640" y="292428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4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7. Tárgyak kivite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15360" y="1628640"/>
            <a:ext cx="38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ivinni tilos tárgy a gépjármű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32720" y="23493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in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4960" y="2276640"/>
            <a:ext cx="27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an - kivitel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342900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akomány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72360" y="2708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43640" y="3357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272360" y="3716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80000" y="42926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76760" y="4437000"/>
            <a:ext cx="187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rakomány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6400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Letétbe hely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0560" y="292428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0560" y="393372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19280" y="292428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3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Arial"/>
              </a:rPr>
              <a:t>K 8. A rakomány ellenőr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1160" y="184464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242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328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24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84720" y="4437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3284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0" y="378936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285264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92720" y="285264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 9. Kihajtás ideiglenes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egtagad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4840" y="177336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kihajtás engedélyezésére illetékes személy érte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2421000"/>
            <a:ext cx="75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tézkedés a kihajtás engedélyezésére illetékes személydöntése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141440" y="3284640"/>
            <a:ext cx="324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16360" y="378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0. p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465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ihajtás engedély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3280" y="4724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kihajtás végleg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24000" y="5589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932000" y="5157720"/>
            <a:ext cx="32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131640" y="5157720"/>
            <a:ext cx="324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4292640"/>
            <a:ext cx="32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131640" y="4292640"/>
            <a:ext cx="324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Jogszabály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22720" y="1916280"/>
            <a:ext cx="63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2005. évi CXXXIII. tv. – Vvtv. -26. § (1) bekezdés b) p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1528560" cy="1528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332080" y="28526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978. évi V. tv. –BTK – 191. 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25960" y="371628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993. évi CXIII. tv. – Mvt. -41. § (2) bekez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27400" y="4724280"/>
            <a:ext cx="57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/1975. (II.5.) KPM-BM együttes rendelet - KRE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Ellenőrzési r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9600" y="907920"/>
            <a:ext cx="48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. Be- vagy kihajtási jogosultság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3399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2. A gépjárművezető kilétét, jogosultságát igazoló okmányok – vezetői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  engedély is –csak behajtásnál , valamint a gépjármű okmányai – forgalmi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  engedély is </a:t>
            </a:r>
            <a:r>
              <a:rPr b="1" lang="hu-HU" sz="1800" spc="-1" strike="noStrike">
                <a:solidFill>
                  <a:srgbClr val="ffff00"/>
                </a:solidFill>
                <a:latin typeface="Verdana"/>
              </a:rPr>
              <a:t>–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sak behajtásnál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360" y="350028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5. Az utasok kilétének megállapí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7160" y="3882960"/>
            <a:ext cx="31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6. A gépjármű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3640" y="46530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8. A rakomány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1040" y="5011560"/>
            <a:ext cx="51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9. A be- vagy ki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640" y="5445000"/>
            <a:ext cx="72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0. A be- vagy kihajtás engedélyezése vagy végleg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400" y="580536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11.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5360" y="24210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3. Ittasság érzékszervi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080" y="2852640"/>
            <a:ext cx="87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4. Ittasság vizsgálata szondával – kihajtásnál csak az objektum tulajdonosának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   járműve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7800" y="4292640"/>
            <a:ext cx="74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7. Rakományhoz nem tartozó tárgyak be- és kivitelének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1. Behajtási jogosultsá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560" y="1628640"/>
            <a:ext cx="51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az objektum területére be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5840" y="2349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1480" y="2349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dokumentumok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443700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Tudomásul ves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328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4437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2. Okmányok ellenőrzése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7800" y="1628640"/>
            <a:ext cx="79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 az okmányok ellenőrzését követően az objektum területére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be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85840" y="23493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1480" y="234936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3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az ittasság érzékszervi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443700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Tudomásul ves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328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429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37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3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– érzékszervi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6640" y="169236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őr az ittasságot érzékszervi ellenőrz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040" y="2708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állapítj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5480" y="26370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állap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13200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564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2360" y="356544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ismeri – jegyzőkönyv -</a:t>
            </a:r>
            <a:br>
              <a:rPr sz="20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hajtás ideiglenes megtagad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565440"/>
            <a:ext cx="2556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ismeri el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–</a:t>
            </a:r>
            <a:r>
              <a:rPr b="1" lang="hu-HU" sz="1800" spc="-1" strike="noStrike">
                <a:solidFill>
                  <a:srgbClr val="00ff00"/>
                </a:solidFill>
                <a:latin typeface="Times New Roman"/>
              </a:rPr>
              <a:t>Következik a 4. pont </a:t>
            </a:r>
            <a:r>
              <a:rPr b="1" lang="hu-HU" sz="18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3141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59640" y="3141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4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– ellenőrzés szondáv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15876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z ellenőrzés történhet az érzékszervi megállapítás után vagy szúrópróba szerű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9160" y="256536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gépjárművezető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141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1417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02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084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6360" y="407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haj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1164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9640" y="508464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357336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5. Utasok kilétének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ellenőrz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000" y="162864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utasok az objektum területére a be- és kilépésre vonatkozó szabályok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szerint belépés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5120" y="23493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Jogosul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00400" y="23493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Nem jogosul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6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a gépjármű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4200" y="443700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35280" y="3429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Tudomásul ves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86200" y="292428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6200" y="393372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nak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59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4437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 behajtá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9:54:31Z</dcterms:created>
  <dc:creator>user</dc:creator>
  <dc:description/>
  <dc:language>en-US</dc:language>
  <cp:lastModifiedBy>user</cp:lastModifiedBy>
  <dcterms:modified xsi:type="dcterms:W3CDTF">2007-03-05T07:35:09Z</dcterms:modified>
  <cp:revision>5</cp:revision>
  <dc:subject/>
  <dc:title>Gépjárművek ellenőrzé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